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F77A-E0B1-48A8-8030-9FF81C53FCD3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AC29-53C3-481E-89EA-8DF00C40838D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roup of pharmacotherapy that is commonly administered is corticostero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vailable in the form of intranasal (INS) which has more local control in the nasal cavity &amp; also oral corticostero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Corticosteroids especially INS corticosteroids are commonly used in RS. It reduces the inflammation &amp; oedema of the nasal mucous membrane rendering resolution of RS 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5B78-82F4-4388-8657-02F523CDB6A8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D7E4-11B4-4267-A168-1C9C38DDC47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A728-634D-499A-AAF4-68F80D886CFE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n local practice, oral steroids are not given due to the possibility of exacerbation of bacterial 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048F-EEDD-4ECD-9CF4-5C352B75C6F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1CA7-AAE7-441F-862B-04E509472E5A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BE24-D0D3-4A8B-BEB0-3484038ECD71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Many studies observed on the improvement of mucocliiary clearance as parameters to assess the use of decongest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t is known that the MCC is significantly slower in AB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01BD-5FA4-496C-87D8-6F8FAF2FECE9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CF52-7BFC-42E1-8990-C0ECD17435C1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Viral RS is a self-limiting disease that is managed symptomatically with analgesic or antipyre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aims of pharmacotherapy are to alleviate/reduce severity of symptoms as well as to prevent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8733-6DC7-4406-B467-599B9F496D6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03AF-0759-4602-84C4-A8A7725A7B5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B8EA-2FFC-4CDA-BFA6-757A0116922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15BA-40C0-4055-A0C8-69140A4FF504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are 4 main groups of the range of medications used in treating RS. Namely antibiotics, corticosteroids &amp; saline irrigations.  While anti-histamine is mainly used specifically in cases with underlying all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n our CPG we have alo include in our discussion a smaller group of medications whereby the administration of which may be of beneficial for the pat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Let us just go through the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3E59-3B65-4791-A29C-F33F0DC8C7E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use of antibiotics in the treatment of ARS provide minimal to moderate benef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Cochrane meta-analysis: In 2009 – showed a reduced risk of treatment failure in antibiotics comparing to placebo by 34% within 7 to 1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A large prospective cohort study demonstrated reduced risk of treatment failure in patients treated with antibiotics vs without antibiotics (HR=0.3, 95% CI 0.21 to 0.4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Patients with poor orodental condition &amp; those with previous use of antibiotics in the past two months benefited most from this (HR of 0.04 &amp; 0.09 respectivel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EA68-DB50-437F-9B21-7D3C6F4C66BC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s have higher incidence of adverse events compared with placebo; gastrointestinal upsets being the most common (OR=2.10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5% CI 1.60 to 2.77; NNH=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urope, antibiotics overuse has been reported to have directly resulted in an increased prevalence of antimicrobial resistance in the reg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re are no available data for the Asian region, antimicrobial resistance due to overuse of antibiotics is an international health 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National Surveillance of Antibiotic Resistance (NSAR) Report by Ministry of Health, Malaysia, bot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reptococcus pneumonia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philus influenzae (two of the most common causat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gens of ARS) have shown an increase in antibiotic resistance from 2010 to 2014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able 1 &amp;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6D08-5103-4A10-996D-6388BBCEE885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gnificant difference in efficacy between different antibiotics in 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ational Antibiotics Guidelines Second Edition 2014, the preferred antibiotics are amoxicillin &amp; amoxicillin/clavulan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Duration of antibiotic therapy should be as short as possible to reduce possible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-analysis showed that a shorter course of antibiotics (3 to 7 days) was as efficacious as a longer one (6 to 10 day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7CA1-6E6B-4CB3-96C8-AD85047D4AB1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use of antibiotic in CRS, on the other hand has insufficient strong evidence to support its beneficial outc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stematic review used only one small RCT with high risk of bi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ome studies which report improvement in symptoms &amp; reduction in inflammatory markers using long-term macrolides such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ithromycin, clarithromycin &amp; erythromycin at low doses in C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ose studies are not placebo-control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2B7A-DF1F-4025-86C3-8CF4EC096600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27C-B35F-4747-9C08-081898EB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A14-2385-4932-8896-6BE79AEA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901-DCCE-46E3-9344-820F474A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86B-AEFA-4319-A143-32D7098B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D6F0-9AF4-4485-95C9-90E1146F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EEAD-6262-42A2-9B16-5EEF3A61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199E-20EB-4204-8B2C-9D29D85E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4F17-5055-4FFC-B47A-4054475A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C26E-C912-45EA-AF14-79404FD3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F69C-DC90-4385-9797-2885ED7C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CF0D-D9BA-456A-9A79-D712D174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A7F-EF89-4025-93B6-7FF34771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8082-2CC6-47EE-9805-F7921C26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4E3E-7C62-4FD1-A645-40682D7F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339B-9DC8-4455-B58F-965D95DB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2C89-433F-40E9-A244-61443025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FD42-3308-4AB6-BB62-E961A51B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6B1D-C983-4620-ABB4-54FC6038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34CF-CB7D-4D43-9D9F-CD2281F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6995-A90A-42A7-AF0B-4224AD32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AEF9-1B04-4B2E-A4F5-860B84D6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472B-0C1F-4401-A026-2119CA5B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C98-D09A-43DD-BEA6-B2BB983A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A2AD-2DD2-40C8-B8BC-17648A4E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0B120-9388-45AE-87DE-4F3F7288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B681-88CD-401B-A7F4-319D10FC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C97A-265C-4D9B-A3D2-A57D5D47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AB98-DB4C-4109-B019-6FA86B3B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1100-A293-46C8-A631-1AA0F384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BD2CE-A381-4953-BBFC-35FC5A82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24AF9-DDA9-422F-B09C-E05A3936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541F5-4CF4-48D0-88E9-A543D916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BDF29-A2AA-4E0F-A671-DA489CFB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872-4715-4D2E-A5E8-12AADDC5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9A799-22D1-444F-BA7C-E0D0D2DD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379A-66E5-441A-AC73-C98AA92D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A7AD-5BB5-4CB0-9309-DEF98FCA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DEA59-295C-4562-AF58-0102D25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F843E-9A17-4FAB-84E5-073DFA9B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1D01-D1C0-46B9-96F4-15ED55D7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781A0-0152-41A0-933A-7A075190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A9903-B7B8-46D7-A0A2-D4E5B0A8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13730-3BA2-4B07-B1A3-9FF20346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DC9C-C409-43D0-BB07-9530245C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6D2-95C2-4393-9559-667008D1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00CAD-F879-41C9-A4C2-57464F3F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2FF06-A160-455D-BDEF-1A56881E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0AB16-38AE-40F3-B1EB-7086C3CA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0F03-D7CF-4D80-A6AB-9B5C17CE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2DEC1-04C2-42C9-A939-8B72FDC1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E7B0-D080-4462-A27C-4C9845D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8DF7-14A2-4DD0-90C6-55566D56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37BE-F9D6-4E07-B120-F1EDFE09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A0976-6F68-4CBF-9018-A78C629E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199E9-3ABA-4142-9640-2DA375A0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B8C-F669-4809-9B52-D4ED72F2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56F4-55BB-4539-9C79-7BFCBA01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4D8B8-F7BA-4D91-A10A-F7B6747E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E20A-6525-4176-939E-6736D9CC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BBF89-6095-4B5C-B44D-EFDB66C4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55FDD-7E7E-4BB0-8F9E-BAAF6A46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8BA2-02FB-4366-993A-343D915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ECA47-2548-436C-8666-8481D29F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AD31B-814E-43C2-AF1E-73A32334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CEE6E-8FCF-4D7A-B19A-AC437D9A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156C0-7E70-4067-9BB3-B777F432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03D-1715-47A2-BF50-554C1AE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9EB68-DCF4-4076-B8E7-0C5884B0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E3774-143A-4EBA-92AB-F92CD30A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3BE52-1528-4742-9828-EAA6AA5D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365E2-D710-4C18-802C-83EACFEF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E1B9F-EFBB-4FE3-87C6-CED99A77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59A13-65E4-43AF-8C7A-9C04CE4D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AB086-0316-4D0D-8BDC-E8D4C630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33FA1-00F1-4A26-8ADB-D4E01F8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83CAA-29A8-41F6-9F9B-43C982A1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EA7CD-273A-45B3-B9C2-189EB887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674-5405-4603-89D3-C20F4D0A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7953A-30A1-47C6-BE79-9400D8C1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1B52A-5D58-49D1-8EAE-10670415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DB9FE-8ED1-4A6E-812D-1C014EA8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BCF50-F777-4933-8D9B-A067462F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3F5B-4C81-43A8-9D23-9AAC783C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1D7-D7DC-4699-89D9-697EEB3B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491-BB6E-4446-9FB3-0AED440E5AE8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6A6A-6AFC-45BE-8279-51C32E057B9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B384-ECD2-49CE-B08B-CC4D65473672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5C90-BB85-4E4D-BA45-C9E498BFC72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4B4F-C6D6-481F-9DED-231F6034B5D8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A3FF-D7D0-4A18-8C6E-7F4C25B7BA1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B3B8-C337-4AF4-88BB-3DF408599732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7CCE-00AF-4727-829B-E7AD076AFC4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90CD-B7B7-4120-872E-03FE21C9CF35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9132-769D-40D6-A51E-B59C4B144EB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AEB2-8338-4832-B3FF-53EEFE02D862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5165-B56C-4856-80DC-4A868D51BFA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E101-0EEF-47BC-8685-567B84C9DFBE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0F51-5AD4-40AB-B180-C1F77B72A17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MEDICAL THERAPY</a:t>
            </a:r>
            <a:br>
              <a:rPr sz="36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BY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 IDA SADJA’AH SACHLI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CONSULTANT OTORHINOLARYNGOLOGIST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320e04"/>
                </a:solidFill>
                <a:latin typeface="Gill Sans MT"/>
              </a:rPr>
              <a:t>Training Module CPG Management of Rhinosinusitis in Adolescents &amp; Adul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7980-7FBA-48D0-ADCB-2BA9F1DBC61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antibiot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6559-3ADE-4F9C-9D3A-F68527F5F3A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19320" y="2449440"/>
            <a:ext cx="77724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Corticosteroid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tranasal (INS) &amp; o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reduces the inflammation &amp; oedema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f the nasal mucous membrane rendering resolution of RS symptom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DFFF-5EDF-444D-965A-CB7DD2901EC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2214720" cy="2361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4038480" y="37242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3"/>
          <a:stretch/>
        </p:blipFill>
        <p:spPr>
          <a:xfrm>
            <a:off x="6781680" y="3733920"/>
            <a:ext cx="19083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Corticosteroids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8436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mprove patency of  ostiomeatal complex by reduction in mucosal swel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munomodula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bilise mast ce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lock formation of inflammatory media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hibit chemotaxis of inflammatory ce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rcRect l="16579" t="0" r="16757" b="0"/>
          <a:stretch/>
        </p:blipFill>
        <p:spPr>
          <a:xfrm>
            <a:off x="5218200" y="2117880"/>
            <a:ext cx="3494160" cy="350496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0FD1-EE9D-4793-9922-D1CF6AD636F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INS corticosteroi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219320" y="990720"/>
            <a:ext cx="7696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500" spc="-1" strike="noStrike">
                <a:solidFill>
                  <a:srgbClr val="000000"/>
                </a:solidFill>
                <a:latin typeface="Gill Sans MT"/>
              </a:rPr>
              <a:t>ARS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2 good meta-analyses showed that INS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significantly improved symptoms of ARS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compared with placebo in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14 - 21 days.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However, the effects were smal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Higher doses of mometasone furoate led to better improvement of symptoms. The side effects were mild to moderate</a:t>
            </a:r>
            <a:r>
              <a:rPr b="0" lang="en-MY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n-MY" sz="1600" spc="-1" strike="noStrike" baseline="30000">
                <a:solidFill>
                  <a:srgbClr val="000000"/>
                </a:solidFill>
                <a:latin typeface="Gill Sans MT"/>
              </a:rPr>
              <a:t>34,  35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500" spc="-1" strike="noStrike">
                <a:solidFill>
                  <a:srgbClr val="000000"/>
                </a:solidFill>
                <a:latin typeface="Gill Sans MT"/>
              </a:rPr>
              <a:t>CRS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2 meta-analyses found that INS given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between 16 &amp; 52 weeks duration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was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more efficacious 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than placeb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Reduction in polyp size with a mean difference of 0.43 (95% CI 0.25 to 0.61)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6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Improvement of symptoms, SMD= - 0.37 (95% CI - 0.60 to - 0.13)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No difference in side effect between the INS group &amp; placebo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However, there was no difference in endoscopic score between the 2 groups (SMD= -0.37, 95% CI -0.84 to 0.11)</a:t>
            </a:r>
            <a:r>
              <a:rPr b="0" lang="en-MY" sz="22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4.  Zalmanovici Trestioreanu A,  et al.  Cochrane Database Syst Rev. 2013;(12):CD00514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5.  Hayward G,  et al.  Ann Fam Med. 2012;10(3):241–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6.  Joe SA,  et al. Otolaryngol - Head Neck Surg. 2008;139(3):340–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7.  Snidvongs K, et al.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Cochrane Database Syst Rev. 2011;(8):CD00927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8A7F-40B2-4CF4-8E71-542C0C11184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INS corticosteroid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600" y="1523880"/>
            <a:ext cx="740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mon adverse eff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irritation, mucosal bleeding &amp; crus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Lessen the adverse effects b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Propylene glycol contained in the prepar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witching to a aqueous delivery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oncomitant nasal sal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pliance &amp; correct techniq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8954-1571-4D64-A6C9-FE391E2D45F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Technique of INS administ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CE65-93CE-427F-A158-8E882DDEE97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E:\Slide\p44.png"/>
          <p:cNvPicPr/>
          <p:nvPr/>
        </p:nvPicPr>
        <p:blipFill>
          <a:blip r:embed="rId1"/>
          <a:stretch/>
        </p:blipFill>
        <p:spPr>
          <a:xfrm>
            <a:off x="1663560" y="1371600"/>
            <a:ext cx="6870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ral corticosteroids in A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59080" y="1599840"/>
            <a:ext cx="738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ral corticosteroids (30 mg/day for 7 days) is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significantly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ore effective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an placebo in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improvement of symptoms up to 12 day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ide effects of oral corticosteroids are limited &amp; mild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38, 39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ossibility of exacerbation of bacterial inf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8.  Venekamp RP, et al. Fam Pract. 2012;29(6):706–1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9.  Venekamp RP, et al. CMAJ 2012;184(14):E751–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7B65-6A0F-41B1-A70F-9A28AB5E579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ral corticosteroids in C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58720" y="1542600"/>
            <a:ext cx="7304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hort-term oral corticosteroids (25 mg/day for 2 weeks) is significantly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ore effective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an placebo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in reduction of nasal polyp size &amp; hyposmia score up to 10 week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ral corticosteroids causes transient suppression of adrenal function &amp; increase bone turnover. 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0.  Vaidyanathan S, et al. Ann Intern Med. 2011;154(5):293-30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B7E2-194A-4BD1-BBDE-D4A3310C9DC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0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corticosteroids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C58C-E273-476C-AEA6-4AE732B4966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143000" y="2560680"/>
            <a:ext cx="7848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218960" y="1523520"/>
            <a:ext cx="7715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Facilitates mechanical remov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muc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fective agents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flammatory media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Decreases crus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creases mucociliary clearance (MCC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saline irrigation is recommended to be used in AR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EBB6-C9F5-4C7C-B0EA-F09A73CCBF4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4266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000000"/>
                </a:solidFill>
                <a:latin typeface="Gill Sans MT"/>
              </a:rPr>
              <a:t>Learning Objectiv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o differentiate between acute rhinosinusitis &amp; chronic rhinosinusit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o learn on medical treatments available for ARS &amp; C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know the indications &amp; side effects for each medical treatment for ARS &amp; C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0B8F-8B48-4183-A0D4-6770A39BB4F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600" y="1523880"/>
            <a:ext cx="7378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chrane systematic review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aline irrigation was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efficacious as a </a:t>
            </a:r>
            <a:r>
              <a:rPr b="0" lang="en-MY" sz="2800" spc="-1" strike="noStrike" u="sng">
                <a:solidFill>
                  <a:srgbClr val="ff0000"/>
                </a:solidFill>
                <a:uFillTx/>
                <a:latin typeface="Gill Sans MT"/>
              </a:rPr>
              <a:t>treatment adjunct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for managing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the symptoms of CRS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(SMD=1.42, 95% CI 1.01 to 1.84)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no difference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 the efficacy between isotonic &amp; hypertonic saline irrigation (p= 0.14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1. Harvey R, et al. Evidence-Based Child Heal A Cochrane Rev J 2008;3(3):459–95:CD00639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91A2-36C4-4B8E-86CD-BF0321D1176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600" y="1523520"/>
            <a:ext cx="7404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dverse events are minor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bur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rri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use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BF23-0068-4D24-AD84-CD576575451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saline irrig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F641-41DD-4D8C-A9E9-0D83B3AD899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19320" y="2963880"/>
            <a:ext cx="7696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-histam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here is an increase prevalence of allergic rhinitis (AR) in patients with CRS, although the role of allergy in the development of CRS remains unclear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Antihistamine controls sinusitis symptoms in A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Current data yields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insufficient evidence to recommend antihistamines 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for treatment of CRS in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non-allergic rhinitis 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patient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1, 23, 42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3. Desrosiers M, et al. J Otolaryngol - Head Neck Surg BioMed Central Ltd; 2011;40(SUPPL. 2):99–14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2. Braun JJ, et al. Allergy. 1997;52(6):650–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5083-1A58-4351-A615-2FF4097EA41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-histamine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First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hlorphenarimine, diphenhydram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econd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loratadine, terfenadine, cetriz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ird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fexofenadine, desloratadine, levocetriz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newer generations are less sed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8150-9B45-43FA-8E9E-D0D81D74F4B5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anti-histamin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AC2A-3993-49D7-815E-6B6E9676B15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219320" y="2771640"/>
            <a:ext cx="777240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ther med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insufficient recent evidence on the following treatment in rhinosinusiti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alges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decongesta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mucolyt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viral ag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477F-0FDF-4AB9-A989-D9F021C7327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analges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rovide symptomatic relief in both viral &amp; bacterial infections of the upper respiratory passages in RS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5601-F998-4FD4-92B5-2D43DC6B715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decongesta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34600" y="17521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MCC improves significantly with oxymetazoline after 20 minute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44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opical or systemic decongestants may offer additional symptomatic relief in VRS, however their ability to prevent ABRS is unproven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In local context, decongestants is prescribed in AR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19. Rosenfeld RM, et al. Otolaryngol - Head Neck Surg (United States) 2015;152:S1–3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4. Inanli S,  et al. Laryngoscope. 2002;112(2):320–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E5B0-3281-4224-AB9D-CA4AE7B2754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decongestant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7F0B-4DD2-4E37-801D-38FE7936695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219320" y="2685960"/>
            <a:ext cx="77724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Rhinosinusitis (ARS), viral or bacterial in origin, is usually treated medical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Viral 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elf-limiting dise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ymptomatic relief - analgesic or antipyretic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8748-936E-4143-83A8-7921086EA7C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mucolyt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no evidence to support the use of mucolytics in R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monly available mucolytic are bromhexine and guaifenesin 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s not proven to be effective in reducing symptoms of sinusit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8B70-CB37-4EE2-AC94-1F9DE812214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antiviral agents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600" y="18284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no evidence of antiviral agents used effectively in treating patients with RS.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9E11-24AB-4946-8205-D99455198F6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Summary of treatment relevanc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BF14-4949-4D01-8DD1-AC6FFBC3CD85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1295280" y="1982880"/>
            <a:ext cx="75931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Medication dosage, indications &amp; special precautions in R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739F-2030-4EAA-B1CE-36038159DE8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1852560" y="1676520"/>
            <a:ext cx="637704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759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Medication dosage, indications &amp; special precautions in R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1360-0B07-4C74-A73C-85858F28481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60580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152280"/>
            <a:ext cx="749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OMPLEMENTARY &amp; ALTERNATIVE MEDICIN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34960" y="13716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here is limited evidence of herbal medications use as adjunct treatment in AR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5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cupuncture shows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no significant improvement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in symptoms score, quality of life &amp; CT scan findings compared with conventional treatment in CR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5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3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50. Guo R, et al. Otolaryngol - Head Neck Surg. 2006;135(4):496–506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51. Rössberg E,  et al. Complement Ther Med. 2005;13(1):4–1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F79A-D697-4327-9D2B-578149C8EE0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143000" y="4710240"/>
            <a:ext cx="784872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763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572314"/>
                </a:solidFill>
                <a:latin typeface="Gill Sans MT"/>
              </a:rPr>
              <a:t>Management of ARS for primary care &amp; non-ORL cent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C69C-7074-49D9-B5F3-D1802E90F9C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2914560" y="914400"/>
            <a:ext cx="4095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Take Home Messag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434960" y="1523520"/>
            <a:ext cx="732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harmacotherapy is aimed to alleviate symptoms &amp; prevent complications in 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Beware of antiobiotic resist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Vital important to identify the correct diagnosis &amp; early sign of complic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211C-02B6-4169-B16D-A45CD9CDAC7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6020-7CCB-43B5-A017-03AFD8F735C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aims of pharmacotherap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o alleviate symptoms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o prevent com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A7C4-2A6D-424B-BB26-8235C708251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4266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500" spc="-1" strike="noStrike">
                <a:solidFill>
                  <a:srgbClr val="000000"/>
                </a:solidFill>
                <a:latin typeface="Gill Sans MT"/>
              </a:rPr>
              <a:t>Range of medications available: 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corticosteroid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nasal saline irrigat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-histamin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others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nalges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decongesta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mucoly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ntiviral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B881-BCFB-4BA6-ACB6-06AAD834566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2860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600" y="1219320"/>
            <a:ext cx="7404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Minimal to moderate benefi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Cochrane meta-analyse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2009 - a </a:t>
            </a: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reduced risk of treatment failure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in antibiotics comparing to placebo by 34% within 7 to 15 days (RR=0.66, 95% CI 0.44 to 0.98)</a:t>
            </a:r>
            <a:r>
              <a:rPr b="0" lang="en-MY" sz="2000" spc="-1" strike="noStrike" baseline="30000">
                <a:solidFill>
                  <a:srgbClr val="000000"/>
                </a:solidFill>
                <a:latin typeface="Gill Sans MT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2012 - a </a:t>
            </a: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favourable overall treatment effect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of antibiotics against placebo (OR=1.25, 95% CI 1.02 to 1.53; NNT=18)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Gill Sans MT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 large prospective cohort study:</a:t>
            </a:r>
            <a:r>
              <a:rPr b="0" lang="en-MY" sz="2200" spc="-1" strike="noStrike" baseline="30000">
                <a:solidFill>
                  <a:srgbClr val="000000"/>
                </a:solidFill>
                <a:latin typeface="Gill Sans MT"/>
              </a:rPr>
              <a:t>28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reduced risk of treatment failure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in patients treated with antibiotics vs without antibiotics (HR=0.3, 95% CI 0.21 to 0.4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patients with poor orodental condition &amp; those with previous use of antibiotics in the past 2 months benefited most from this (HR of 0.04 &amp; 0.09 respectively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6.  Ahovuo-Saloranta A et al.  Cochrane Database Syst Rev. 2008; 2014;2:CD00024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7.  Lemiengre MB, et al.  Cochrane database Syst Rev 2012;10(10):CD00608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8.  Blin P et al. Br J Clin Pharmacol. 2010;70(3):418–2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438E-4629-4AF5-80F4-5AFA70CEFBE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dverse effects - mostly gastrointestinal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microbial resistance due to overuse of antibiotics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MY" sz="3200" spc="-1" strike="noStrike">
                <a:solidFill>
                  <a:srgbClr val="000000"/>
                </a:solidFill>
                <a:latin typeface="Gill Sans MT"/>
              </a:rPr>
              <a:t>Streptococcus pneumoniae, Haemophilus influenza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9, 30, 3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1. Fokkens WJ, et al. Rhinology. 2012 Mar;50(23):1-30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9. Ministry of Health M. National Surveillance of Antibiotic Resistance (NSAR). 201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0. Ministry of Health M. National Surveillance of Antibiotic Resistance (NSAR) Report. 201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1. Ministry of Health M. National Surveillance of Antibiotic Resistance (NSAR) Report. 201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DF90-5623-4775-9E25-11BB7B4D9A3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re is no significant difference in efficacy between different antibiotics in ARS.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Preferred antibiotics are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amoxicillin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&amp;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 amoxicillin/clavulanate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 meta-analysis: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a shorter course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f antibiotics (3 to 7 days) was as efficacious as a longer one (6 to 10 days).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8. Falagas ME, et al. Br J Clin Pharmacol. 2009;67(2):161–71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138E-9926-4851-82FE-00A015FE3F6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biotics in C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599840"/>
            <a:ext cx="732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sufficient strong evidence to support the routine use of antibiotics in C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acrolide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administered by ORL specialists in CRS for its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anti-inflammatory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properti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C089-3471-414A-A20E-E042DFB69D2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22:12:47Z</dcterms:created>
  <dc:creator>DrAmin</dc:creator>
  <dc:description/>
  <dc:language>en-US</dc:language>
  <cp:lastModifiedBy>DrAmin</cp:lastModifiedBy>
  <dcterms:modified xsi:type="dcterms:W3CDTF">2017-10-06T01:52:27Z</dcterms:modified>
  <cp:revision>63</cp:revision>
  <dc:subject/>
  <dc:title>PowerPoint Presentation</dc:title>
</cp:coreProperties>
</file>